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6FC-98DE-499F-AD0C-8687E27C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F34-E5EB-4960-B418-AB27930484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CB8-6A84-4084-A81A-593340B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76F-CF7A-470B-A324-291C181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457-D448-434F-8A32-7E029C3D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E40-15EB-49E1-81FD-10C9F8A0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6ED-5CE6-4EAF-9D94-1D1FCA8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9C6-BC03-4F90-9C3C-D26804A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F88-9690-4623-9EB5-2B761638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907-063D-42E0-B0BB-95B8958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2D1-B225-4998-A529-6E93B1C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562-8A9F-4377-9D91-ED9DB5D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7F2-4787-40CC-9B08-AB4F0B1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57A-371E-476B-AAD2-B98D99E1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3DB8-FE70-4E40-B3B0-1C82C861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702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0 de febrero del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Cómo terminamos el repaso para la prue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rar GRAMATICA EN V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puntes ac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ar los ejercicios del vid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TOMAR </a:t>
            </a:r>
            <a:r>
              <a:rPr b="0" lang="es-ES_tradnl" sz="3600" spc="-1" strike="noStrike" u="sng">
                <a:solidFill>
                  <a:srgbClr val="ff0000"/>
                </a:solidFill>
                <a:uFillTx/>
                <a:latin typeface="Arial"/>
              </a:rPr>
              <a:t>Quiz 4: Capitu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a en 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36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¡Viva Argen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hoja distribuida, completa las siguientes se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El pa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l unifor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Un parti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4889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hoj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: ¡Viva Argentina!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siguientes se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Po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Comparac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8088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5:54:37Z</dcterms:created>
  <dc:creator>Helen Zumaeta</dc:creator>
  <dc:description/>
  <dc:language>en-US</dc:language>
  <cp:lastModifiedBy>Helen Zumaeta</cp:lastModifiedBy>
  <dcterms:modified xsi:type="dcterms:W3CDTF">2015-02-12T17:51:52Z</dcterms:modified>
  <cp:revision>20</cp:revision>
  <dc:subject/>
  <dc:title>Me llamo __________ Clase 6 nh/il La fecha es el 11 de mayo del 2011</dc:title>
</cp:coreProperties>
</file>